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EE83-0A8E-4E22-B4FB-B9CF4EDC64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goals and learning objectives are congruent to the museum director’s request in designing a training curriculum for volunteers to learn and perform the tasks in leading tours of the exhibit and </a:t>
            </a:r>
            <a:r>
              <a:rPr b="0" lang="en-US" sz="1200" spc="-1" strike="noStrike">
                <a:solidFill>
                  <a:srgbClr val="000000"/>
                </a:solidFill>
                <a:latin typeface="Arial"/>
              </a:rPr>
              <a:t>staffing the museum </a:t>
            </a:r>
            <a:r>
              <a:rPr b="0" lang="en-US" sz="1200" spc="-1" strike="noStrike">
                <a:solidFill>
                  <a:srgbClr val="000000"/>
                </a:solidFill>
                <a:latin typeface="Arial"/>
                <a:ea typeface="AppleGothic"/>
              </a:rPr>
              <a:t>in</a:t>
            </a:r>
            <a:r>
              <a:rPr b="0" lang="en-US" sz="1200" spc="-1" strike="noStrike">
                <a:solidFill>
                  <a:srgbClr val="000000"/>
                </a:solidFill>
                <a:latin typeface="Arial"/>
              </a:rPr>
              <a:t>formation station to answer visitors’ questions. The first two goals focuses on the museum specialized paintings and information center. Volunteers will be given learning materials to train and learn from in order to perform the task of leading tours, and answering visitors questions with competenc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95F9-9885-444B-9494-FE7EC5A388A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have the last two learning goals and learning objectives congruent to the museum director’s request in the task of </a:t>
            </a:r>
            <a:r>
              <a:rPr b="0" lang="en-US" sz="1200" spc="-1" strike="noStrike">
                <a:solidFill>
                  <a:srgbClr val="000000"/>
                </a:solidFill>
                <a:latin typeface="Arial"/>
              </a:rPr>
              <a:t>maintaining an Excel database of patron information and calling and e-mailing patrons to raise funds. Volunteers will be given a pretest for measuring Microsoft Excel knowledge and learning materials to perform the task of calling and emailing patrons. The learning goals and objectives are designed clear with specific purpose and instruction for the training </a:t>
            </a:r>
            <a:r>
              <a:rPr b="0" lang="en-US" sz="1200" spc="-1" strike="noStrike">
                <a:solidFill>
                  <a:srgbClr val="000000"/>
                </a:solidFill>
                <a:latin typeface="Times New Roman"/>
              </a:rPr>
              <a:t>curriculu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49AF-AB03-494A-9B4D-73D4C4418847}"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C5F5F-85B6-463A-AE79-CD0232713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3F6CC-5860-4601-B6EC-5237367D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A71758D-A819-4442-8615-55AF63B64F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322FFE2-191E-4EDA-95A4-9CC9597033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3A5D9F1-308C-440C-96B8-495427BD1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A4A31A6-CA5C-4831-A8C0-CBA2473BC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DA7B128-77D4-4531-AB4E-358369CF0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7582B1A-396B-4BA0-85A9-4CC9716E2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C2DFA83-153C-4F28-ACD8-58DAFA04EA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DC3FD491-A221-479B-B680-3944623222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5C71CF8-7246-4B18-919B-738ACDE636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2A24350-E625-4051-BF3A-A8E1AEE123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4D3BE-2021-4C2D-A9A9-D89611892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5891077-B9C8-4ED1-8CFC-A31672A6E7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BDFC982-5573-4553-8AB1-37905E6E42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C40E45E-1AAB-436D-99D6-FBE60B12C9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4DD2671-0A3A-45F3-8C1C-A4BCCD0E14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E4F7DBD-3DDF-407F-B9D7-67A9B42A82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DDA2761-74F3-4795-8E8F-8D5A3745B9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E1D81A9-49C3-4782-8270-A235CEBE4B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AA552EC-BA74-4816-8AC7-1D30853439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064963A-0FB5-4A05-A0AE-D61AA89D12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587C66B-094F-4F81-A2D3-F686418B88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04173-BA98-4A60-9737-5D25D6CD4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B7FA575-C690-4836-82CE-CC62DE18E8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2C2E39-735A-4AED-BCA7-8F2A2AB5B8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E38D2A-7598-44B1-9129-78EDACBD42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651FDF-F992-4590-A132-1C88BBF0BE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A800A8-2616-4A9A-8DE2-5D734A114B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C9B4A1-14B4-44F9-946E-456DADCB74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ED7FDF-64D4-44E2-B1FA-40196F5B93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467783-2126-41CA-9E6B-5A0920747C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E009F8-3E65-46E8-B44A-96EC18E79E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EA223F-EADF-473F-B0B7-135347845D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A99673-5150-482F-B91C-3DE576607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8D8775-CAD8-4867-A99A-3205F10570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2DD19F-0962-4C23-9A9C-0208CB699E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1236C8-2CD3-4CF6-884A-A985576EC3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5D6172-47BE-4AB8-8AF1-28DF508282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5EEC15-2C72-4652-B32F-64A3416839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E7F345-BBB1-4AD5-9AC4-5447E4ED9D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89F43C-3B97-4348-9609-562CAE8503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C69188-32A7-45AB-A60F-E5E3AFBD74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13F524-2D2E-4A95-B41B-35151D5D6D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7AAF3C-F0BD-42C1-8890-A089411635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9185B6-871B-46BC-9B25-4CC32BFAE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8095FE-9BDB-4306-B036-5E26B7017F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D78E22-9FCD-43A3-94BF-6A0DEB23B2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C0F244-29C7-4243-A76B-DEBFA2FF66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082F0B-B5A6-4848-8422-3B77C22EEA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3FE079-28EE-49E7-A114-AB933AB618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FDE67B-20CF-43C3-A87A-52E2130BD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FF4C92-38AA-4B4B-8694-746C9AC51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6B772D-2468-4175-884E-23109FDA1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5A2256-3A0D-4074-81D0-F212EE814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FD0298-02C8-4D79-9FFF-441F26A59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9C4E7-4A7E-4EE0-8F5A-17E5035D7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AB8AB1-1296-4161-8C49-CCF8F72D8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6561F0-1518-49B4-8B44-E9A4D264B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6DB6E6-611E-407D-817D-74EFB9FDE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10F1F01-357E-433B-B61C-479E14B74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965CA1-BD37-4A13-8B86-A2998E82A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21C596-1C8C-4737-BDC9-21420BCA9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CC7AC2-0E66-4407-B466-9153A240A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979C7B-7D6F-4EAA-8616-F2128FB91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6A0B93-99CF-4884-B49E-2DA270B38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68BB25-0A1B-478E-A80F-0C6C3E8C1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7B1A-5AAF-4934-92F8-82A30120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5FB3FA-31ED-41A1-8F16-955B2B18EA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4F3940-215F-4A65-BC74-C15AD1AD5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06D889-F41B-4E22-8DFD-03E54004D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C7D2A3-4452-466B-93C3-DB12D61AF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A9691A-40E0-4FEC-A89C-85CC6183F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512E631-6757-4D0C-9B7F-36280D1BC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E50FEDF-F2D4-4610-9AC2-B627563DB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E9C9211-DF47-44E5-9D77-6C2E3A3DB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B20E7C-63CB-4B8A-B9A2-B238E5407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AA20FD-9A4D-4D40-B5EA-AC5FB918B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CD76A-2D17-4355-A91D-8024D5312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7E3D74-E533-4DF6-ADB4-3E31223227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B7BC0C-A420-4D84-A49B-293435864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CDD540-5B4E-4BA3-B273-B6F37D404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174236-C523-47A2-8D1F-D1774233A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54EB7D-9A64-4595-9CB8-915BF0079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FFF694-48CA-4BD5-95D0-2BB47A129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1B4439-C365-4C01-983C-9689CC81C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AE1A04B-29C2-4D49-BF03-B3BB73CF40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5B596E-672A-4927-B398-F7218EC37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A5DAC3F-E43B-466C-AD71-666ABE219F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4B149-C577-47C2-9A65-8BF536A7D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3E6F10-8DED-4676-8938-7661A739D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E8580C-E629-4FAE-BF37-1EF18F751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EC918A-0585-476F-8119-5C0D8A791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6A70F9-E151-426C-B902-1C78CE5F6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947338-250E-4EBE-8934-00CCE684F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76AFFC-0A88-42E1-914A-D108EE9C5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904EF6-8515-4D4B-9240-447ED8169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FE253F-A64C-4462-8777-485BEFC07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5623BE-D961-4936-BC16-2C40A9B61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0956009-19B2-46D3-A57C-D501AE0FE4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6A0D2-3ECC-4239-974C-731596B8B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7467EA-1016-419E-897E-7E5B923952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52FD339-6718-4019-94EB-6042E5B6C9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AF4091-E7C2-4AB8-805F-C2B7A3721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6EE224-70BF-46B6-B7AB-54A88FC16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EFB7B1-4695-4CBD-B9AF-A0E11B9E1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E3A4EB7-E09B-4DC3-8CD1-D6B01886CE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781FF67-EFCA-4D31-A35C-E92E6BEB1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9139A7-3EBB-4C6E-94B9-1F0F5AD578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981F17-817B-4621-8EC9-F4EA7AF85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7DE1AF-93D8-4FFD-AC5A-DAC0A5D5F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2D3E2-0D1B-4350-888A-C6CCCCD4E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C6D672-FF36-444D-B28C-140277F32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C0C8517-9339-484E-AE87-E8E86EBD88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8DA7BA2-8F84-4D92-A115-D2C570C624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C4E4B6-CCE2-4B5E-AAD1-60DC28716D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1EBB22-69BD-4C7C-B5EE-523DAE726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B88E50C-97FA-43E2-911B-6C5B5C7BA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03FAF1-EDE0-4EFA-B999-4D2B4A538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BB3BAA7-6711-4139-A724-A3AD22AF1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B442A47-1453-40F6-850E-94CB1DF7C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DF0AD4-5B68-4B56-8954-889927850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5B055-A495-471E-A415-99A6BE42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970779-3B37-4024-AC48-5FFDB161A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3B6FF4-8C95-42AA-B7BD-ADEB0341B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DB924E-E82A-415D-B7B0-150300AFF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CA5867D-5524-4629-B27C-738FB9AA3A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239167A-401E-480C-92D8-83BAB292A0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ECB341A-6B7E-46DC-8C12-601E011915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7628034-2840-48BC-BBD0-C27D81069C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CAEA337-8BCB-4898-A6BF-A31226C6B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A52BAAD-5341-4AD1-BE87-CE2F2811E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45E98D3-8DBA-4DAC-ADCE-E16BD520B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F38E-85E3-46FE-8BFA-AB504EE3A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8B37581-EFFE-40AB-8BA2-23D1136B87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D26823E-256F-41E0-B1BE-622898386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74C1253-E5CF-4B9E-BC69-EF0EE2D55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5650FC5-1579-49A0-8D6C-C2B77149B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92EE201-5D57-4C2A-B26E-EBAA582D7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0482716-B0F4-4CB7-A71B-D761F54542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F9DAB2F-8701-474C-8292-293E6C5BC7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0B2653B-4057-469D-BA7B-46CDEF6765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C001A2E-BCC9-4D42-9957-9FF154EC33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94D14FA-D30A-4DAF-AC16-886348FB5C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B1F6-FA0C-49AC-856B-274561073DC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A2CA-DAB9-4E60-858B-F03E8DA2F97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A0BE-A317-422E-88AA-2DEDE2CE94C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5709-3962-48B9-9252-D6DCCC5566B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DBB1-6604-4491-B215-708A06B44B2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5760-635D-4152-AA0A-D53F6427713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2E9A-BE7D-4D70-80EB-62D154FCB76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FA85-C8B7-4B58-A096-486351F06A4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2C9A-87CE-41F8-A610-10DF37AD4E7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7928-3C5F-4EA5-8B34-D69175F5D85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5154-0516-4F75-95FA-0347C08F9B7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lick to edit the outline text format</a:t>
            </a:r>
            <a:endParaRPr b="0" lang="en-US" sz="1800" spc="-1" strike="noStrike">
              <a:solidFill>
                <a:srgbClr val="ffffff"/>
              </a:solidFill>
              <a:latin typeface="Corbel"/>
            </a:endParaRPr>
          </a:p>
          <a:p>
            <a:pPr lvl="1" marL="171360" indent="-1713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cond Outline Level</a:t>
            </a:r>
            <a:endParaRPr b="0" lang="en-US" sz="1800" spc="-1" strike="noStrike">
              <a:solidFill>
                <a:srgbClr val="ffffff"/>
              </a:solidFill>
              <a:latin typeface="Corbel"/>
            </a:endParaRPr>
          </a:p>
          <a:p>
            <a:pPr lvl="2" marL="344520" indent="-16524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rd Outline Level</a:t>
            </a:r>
            <a:endParaRPr b="0" lang="en-US" sz="1800" spc="-1" strike="noStrike">
              <a:solidFill>
                <a:srgbClr val="ffffff"/>
              </a:solidFill>
              <a:latin typeface="Corbel"/>
            </a:endParaRPr>
          </a:p>
          <a:p>
            <a:pPr lvl="3" marL="517680" indent="-16992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urth Outline Level</a:t>
            </a:r>
            <a:endParaRPr b="0" lang="en-US" sz="1800" spc="-1" strike="noStrike">
              <a:solidFill>
                <a:srgbClr val="ffffff"/>
              </a:solidFill>
              <a:latin typeface="Corbel"/>
            </a:endParaRPr>
          </a:p>
          <a:p>
            <a:pPr lvl="4" marL="689040" indent="-173160">
              <a:spcBef>
                <a:spcPts val="1199"/>
              </a:spcBef>
              <a:buClr>
                <a:srgbClr val="54617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ifth Outline Level</a:t>
            </a:r>
            <a:endParaRPr b="0" lang="en-US" sz="1800" spc="-1" strike="noStrike">
              <a:solidFill>
                <a:srgbClr val="ffffff"/>
              </a:solidFill>
              <a:latin typeface="Corbel"/>
            </a:endParaRPr>
          </a:p>
          <a:p>
            <a:pPr lvl="5"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ixth Outline Level</a:t>
            </a:r>
            <a:endParaRPr b="0" lang="en-US" sz="1800" spc="-1" strike="noStrike">
              <a:solidFill>
                <a:srgbClr val="ffffff"/>
              </a:solidFill>
              <a:latin typeface="Corbel"/>
            </a:endParaRPr>
          </a:p>
          <a:p>
            <a:pPr lvl="6" marL="689040" indent="-173160">
              <a:spcBef>
                <a:spcPts val="11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eventh Outline Level</a:t>
            </a:r>
            <a:endParaRPr b="0" lang="en-US" sz="18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6E5C-C4E2-4FFB-A3DC-B44E5C4F1AF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TextBox 1"/>
          <p:cNvSpPr/>
          <p:nvPr/>
        </p:nvSpPr>
        <p:spPr>
          <a:xfrm>
            <a:off x="-18720" y="111240"/>
            <a:ext cx="35776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Goals/Objectives</a:t>
            </a:r>
            <a:endParaRPr b="0" lang="en-US" sz="3400" spc="-1" strike="noStrike">
              <a:solidFill>
                <a:srgbClr val="ffffff"/>
              </a:solidFill>
              <a:latin typeface="Corbel"/>
            </a:endParaRPr>
          </a:p>
        </p:txBody>
      </p:sp>
      <p:pic>
        <p:nvPicPr>
          <p:cNvPr id="518" name="Picture 2" descr="C:\Users\Owner\AppData\Local\Microsoft\Windows\Temporary Internet Files\Content.IE5\BK0RA2J1\MC900432675[1].png"/>
          <p:cNvPicPr/>
          <p:nvPr/>
        </p:nvPicPr>
        <p:blipFill>
          <a:blip r:embed="rId2"/>
          <a:stretch/>
        </p:blipFill>
        <p:spPr>
          <a:xfrm>
            <a:off x="8377200" y="6149880"/>
            <a:ext cx="762120" cy="762120"/>
          </a:xfrm>
          <a:prstGeom prst="rect">
            <a:avLst/>
          </a:prstGeom>
          <a:ln w="0">
            <a:noFill/>
          </a:ln>
        </p:spPr>
      </p:pic>
      <p:sp>
        <p:nvSpPr>
          <p:cNvPr id="519" name="TextBox 3"/>
          <p:cNvSpPr/>
          <p:nvPr/>
        </p:nvSpPr>
        <p:spPr>
          <a:xfrm>
            <a:off x="380880" y="1028880"/>
            <a:ext cx="8377200" cy="651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1 - Given resource materials about 19th and 20th century American painters, volunteers will describe the paintings when leading a museum tour.</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handout sheets and slide on 19th and 20th century American painters, volunteers can recall and match the paintings to the correct artist.</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the map of the museum, volunteers can lead tours within two hour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2 - Given a manual book on museum’s policies and local information about tourist attraction, volunteers at the “information station” can answer visitor’s questions.</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museum’s policies, volunteers can produce the answers on frequently asked questions about the museum.</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handout on tourist information, volunteers can direct visitors to main tourist attraction within a two miles radiu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1"/>
          <p:cNvSpPr/>
          <p:nvPr/>
        </p:nvSpPr>
        <p:spPr>
          <a:xfrm>
            <a:off x="-18720" y="111240"/>
            <a:ext cx="35776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b24cf"/>
                </a:solidFill>
                <a:latin typeface="Articulate Extrabold"/>
              </a:rPr>
              <a:t>Goals/Objectives</a:t>
            </a:r>
            <a:endParaRPr b="0" lang="en-US" sz="3400" spc="-1" strike="noStrike">
              <a:solidFill>
                <a:srgbClr val="ffffff"/>
              </a:solidFill>
              <a:latin typeface="Corbel"/>
            </a:endParaRPr>
          </a:p>
        </p:txBody>
      </p:sp>
      <p:pic>
        <p:nvPicPr>
          <p:cNvPr id="521" name="Picture 2" descr="C:\Users\Owner\AppData\Local\Microsoft\Windows\Temporary Internet Files\Content.IE5\BK0RA2J1\MC900432675[1].png"/>
          <p:cNvPicPr/>
          <p:nvPr/>
        </p:nvPicPr>
        <p:blipFill>
          <a:blip r:embed="rId2"/>
          <a:stretch/>
        </p:blipFill>
        <p:spPr>
          <a:xfrm>
            <a:off x="8377200" y="6149880"/>
            <a:ext cx="762120" cy="762120"/>
          </a:xfrm>
          <a:prstGeom prst="rect">
            <a:avLst/>
          </a:prstGeom>
          <a:ln w="0">
            <a:noFill/>
          </a:ln>
        </p:spPr>
      </p:pic>
      <p:sp>
        <p:nvSpPr>
          <p:cNvPr id="522" name="TextBox 3"/>
          <p:cNvSpPr/>
          <p:nvPr/>
        </p:nvSpPr>
        <p:spPr>
          <a:xfrm>
            <a:off x="380880" y="1044720"/>
            <a:ext cx="8377200" cy="616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3 - When given access to the Excel database, volunteers will be able to locate, edit, copy, and add new patron’s information into the database.</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prerequisite test for measuring accuracy in Microsoft Excel, volunteers will add patron’s application form, organize the database, and retrieve patron’s information within 5 minut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oal #4 - Given training techniques for raising funds, volunteers will call and e-mail patrons to raise funds.</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Objectives:</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phone manual about raising funds, volunteers will operate the phone to call 25 patrons and calculate total funds raised each month.</a:t>
            </a:r>
            <a:endParaRPr b="0" lang="en-US" sz="1800" spc="-1" strike="noStrike">
              <a:solidFill>
                <a:srgbClr val="ffffff"/>
              </a:solidFill>
              <a:latin typeface="Corbel"/>
            </a:endParaRPr>
          </a:p>
          <a:p>
            <a:pPr marL="343080" indent="-343080">
              <a:lnSpc>
                <a:spcPct val="100000"/>
              </a:lnSpc>
              <a:buClr>
                <a:srgbClr val="1b24c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Verdana"/>
                <a:ea typeface="Verdana"/>
              </a:rPr>
              <a:t>Given a page on how to raise funds through e-mail, volunteers will operate in sending out e-mails to 25 patrons every month in 30 minutes with less than 3 errors. </a:t>
            </a:r>
            <a:endParaRPr b="0" lang="en-US" sz="1800" spc="-1" strike="noStrike">
              <a:solidFill>
                <a:srgbClr val="ffffff"/>
              </a:solidFill>
              <a:latin typeface="Corbe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1:44:40Z</dcterms:created>
  <dc:creator>Ann M Gall</dc:creator>
  <dc:description/>
  <dc:language>en-US</dc:language>
  <cp:lastModifiedBy>joe yu</cp:lastModifiedBy>
  <dcterms:modified xsi:type="dcterms:W3CDTF">2011-07-05T18:32:20Z</dcterms:modified>
  <cp:revision>32</cp:revision>
  <dc:subject/>
  <dc:title>PowerPoint Presentation</dc:title>
</cp:coreProperties>
</file>